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0754-119E-4046-89BE-083CBCFE3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26F1-F349-49C4-89C1-D74929E8A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6FBC-B162-4103-AB9E-013847BFD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1EDE-B258-4B57-962E-719DD3FDF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6FB7-1086-4B40-A631-E9AB51FD5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77EA-4FFC-4BFD-8731-E6E8FB215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9FDB-F617-4221-BB44-369081864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B64D-FBCD-4AD1-8705-0D45E4F9D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6DF2-2802-40DD-ADD4-DA02931B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20B7-CF70-4939-8A8B-6DD690151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85CD-FB58-4127-B939-8E6E66C32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749B-5135-4BCD-B51C-9259240FB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CDD6-751C-40A7-8E01-4D1575FD7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have used positive coordinates if I see this 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1636-5202-48D6-9DE7-7410DDF67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DD7C-E95F-4534-BD2F-EC8B8A9F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88B4-2516-4CBC-B649-D1027D6C2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54BB-A74B-4CDA-9DD9-7F71CEC6C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B80D-A68B-45A4-8C27-9DDA2FEFF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8AC7-E418-4A9D-86A5-28DD96340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5B3B-FDE6-4CF9-A13E-0A749B048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A005-6625-466D-B88F-864FE52C8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90CE-A39C-4770-805E-D9A0D633E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91BC-77A2-4FF6-A45A-A702CAB93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4944-5852-4CA8-BA70-C51071CC2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D3BE-C7C4-4CB5-8088-7234EB26E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BA4B-3173-4C61-AC13-A8920AD9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624C-A60A-4333-9346-CBFB99D09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 that summarizes previous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06B7-DE0A-4A9A-9E04-21929CE0A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B1D3-3613-4793-9D3C-731B54FDC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23B1-C075-40A8-8A24-C8A65EC83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6AC0-5572-49BA-A53B-5667C4C78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30DB-908D-4EB1-9602-2DF1BE444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ADB0-9835-4591-9847-8B63EB922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3128-32B8-40CE-AE43-5E38AD4C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C9F2-230A-443D-8B1D-AFAAEBBFA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83E0-08B8-46A1-A104-456966B24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8B98-B44E-4C90-9276-FD79B9907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4297-78DB-4631-B98C-CC41BF4F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50E-16A0-4E94-9893-B240DBCB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F38-3291-4FB1-A045-14F2848E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449-F999-49B9-BF50-0E58481D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FBD-A15F-4062-84FE-54BAD514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2609-A8F9-4D78-B945-A8EF5906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2224-CCC0-4A0C-8930-4A54A962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4B53-F1C9-48B4-BF0D-A817BF67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F423-6B12-44C8-9791-CBCB41A5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7475-17A3-430E-A82F-60555510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AEF4-A8B6-4812-B10C-18CFE12F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B14B-64CA-4BB6-A660-DA9C6150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CB1-31EE-42E4-B351-18304D53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F482-8855-41D7-ACEF-82C658D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639D-5074-447D-B75D-C98CF15C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7091-F938-4DAF-A084-37221E1F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FD71-6518-4C50-BD36-CE4C7828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35C6-7837-4C96-9937-A880199B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3BE-42BA-41C0-B2F9-B5DE5B95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CBD-168E-4DF9-BA6D-CC1EF84E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400-88A4-4336-A5D5-C1E890E3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2B2-BC96-4A96-84CC-DF2BC2E4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862-8F3C-4A38-9497-CA780568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007-6818-4487-965A-30EF9E4A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FD4-2828-49B5-8066-A5693BAE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42EF-A37B-4558-8CB4-B15A5ABA087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C2B3-FDB8-4943-9716-7C26360FCBB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90720" y="2057400"/>
            <a:ext cx="2514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Write an equation and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69A6-D03C-435A-A954-4DEA5EF2907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952880" y="1981080"/>
            <a:ext cx="3429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Solve 3x-2 = 8. Describe your strate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 about how to proceed with your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5365-48A2-41B9-A309-94F88F4A99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there are giant missing prerequisites that will get in the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943A-7519-4167-AD22-E96D5A0E2B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students already know what you were planning to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CC53-F632-4018-9B98-100239DA86F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some unanticipated directions you will need to take with some stud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F482-CCC6-4BCF-9F5A-B900D366DE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lope of a line is -2/3. Tell the coordinates of two points on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D3FB-4CA3-473E-9ACA-E08236697E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 could notic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 students start with a point, go 2 to the right and 3 down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DB93-8497-4A82-BCA0-274B34ED0E2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 could notic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e students start with a point, go 3 to the left and 2 down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5D7A-DD5F-4FE6-84B9-BAA7BAA5DEE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 could notic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udents write y =-2/3 x + 8 and substitute two different values for x  but have trouble with the arithmetic 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0345-41DD-46BC-B20D-363F3A70207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 could notic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negative slopes cause trouble and recognize that some students need more time before they are ready for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6839-FFE9-4020-8810-A499775FC7C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ing up questions for a minds-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876920" y="2057400"/>
            <a:ext cx="3733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2/3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C7EE-0C7E-4633-8E54-4529CE1296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62120" y="2149560"/>
            <a:ext cx="37335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 of slope -3/2 goes through (-4,-1). What i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7B3D-3A0D-4062-AEAB-C30DEACED2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know which way your line slants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5899-923C-49C0-A45E-3F5583E1B78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762120" y="2149560"/>
            <a:ext cx="7772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4, 3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(-3, 0) be on your line? How 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2838-DFE2-4AFD-8410-ECD43DAB42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need to know to write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get that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23A4-445C-4EF9-A31E-21FFCB4765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2149560"/>
            <a:ext cx="77724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you be sure you’re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Basic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3EF9-D111-4075-8341-9D3BF7B6A94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214956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sa : $1.15- quarters/nick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38080" y="3200400"/>
            <a:ext cx="77724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y : $0.80- half the quarters/twice the nick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of each for Li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A5DE-DC64-4858-AF55-A030F654418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62120" y="2149560"/>
            <a:ext cx="77724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 1:  Use equations to model the problem and then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 2: Solve the problem using your number sen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081C-2559-4322-AE99-5D8C72F15D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2120" y="1905120"/>
            <a:ext cx="77724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need to know how much each coin was worth or just the relationship between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know that Amy had an even number of nicke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4C30-211E-49EA-9668-CACD618959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762120" y="2149560"/>
            <a:ext cx="77724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be sure that Amy had an even number of quarter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that each girl had fewer than 5 quart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2F64-CAD0-464E-8EC7-C38DAE139E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2120" y="214956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solve the problem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know your solution is corre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an open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 1:  Describe a relation whose graph is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2222-49EB-4C27-949E-D1EA5822A2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9F84-E4BE-47CC-A52A-F652B819FD8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2120" y="1981080"/>
            <a:ext cx="3200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add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4343400" y="182880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algebra tiles to model two polynomials that multiply to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9FA2-060F-4A4D-BD2F-7A5FDF9660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lgebra tiles show 6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8x+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to model that polynom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4195-FA53-4A56-8E62-79D4C848AF4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arrange your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id you figure out how to sta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ome 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8CBF-5DA8-4BD8-BF02-A947373618F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762120" y="198108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there any other way you could have arranged the ti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E8F1-AA0D-46E9-8750-1D788EE590F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2120" y="1752480"/>
            <a:ext cx="7696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your group, choose one of the suggested set of parallel task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ome common consolidating ques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A6A1-82BC-4772-AF52-AA20271CB7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62120" y="1752480"/>
            <a:ext cx="7696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 to the one of the four corners for people who did your task. Share your questions with another group in your corn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D07C-5111-4578-BA56-0160255B1A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2120" y="1752480"/>
            <a:ext cx="7696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ate a “flow chart” to show the steps you would take to create parallel tasks. Draw on chart pap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58B0-D77F-4A37-840D-09A4CEB58D2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75248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of the steps would be hardest to do al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EE32-E30B-48C0-A97A-56E706949DD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2120" y="175248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 your flowch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ipate in a gallery wal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5605-59BF-4329-89CD-095F3AC7FD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90720" y="198108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relation…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D850-BFDF-450C-9AE5-0738A7B180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105520" y="1905120"/>
            <a:ext cx="30477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underlyin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think is the big idea underlying the open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B237-7E0E-4ECA-86F7-9E8BD053800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22096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lation the graph repres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E422-6EA4-4610-A384-E14F32A7BE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066680" y="22096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the eq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3BA0-69A9-4B4A-95BE-56D7552232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de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9A2F-E374-4C2B-80EC-06B072F91EF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8:21:04Z</dcterms:created>
  <dc:creator>PSteele</dc:creator>
  <dc:description/>
  <dc:language>en-US</dc:language>
  <cp:lastModifiedBy>Marian Small</cp:lastModifiedBy>
  <dcterms:modified xsi:type="dcterms:W3CDTF">2009-07-31T18:40:20Z</dcterms:modified>
  <cp:revision>237</cp:revision>
  <dc:subject/>
  <dc:title>Slide 1</dc:title>
</cp:coreProperties>
</file>